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5F8A2-F9ED-4B7B-9988-42D2B010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DCCE-3823-44DC-AF29-C2A7C7FD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D8BA7-D42E-41BC-8F51-848023DD5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C0A87-39F0-4463-BC4A-CE1D76E19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5DD4-E74E-4C36-8082-9C28DEF3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AA2E-2294-43AE-849F-20FFB406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FD59B-2034-4D98-B1A1-AD17CC6E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12D83-8440-48CB-B5D9-B7B7A625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D921-8398-42F1-9D08-24725795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1DD9-4BCB-426E-A4CA-7161B066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E358-55EE-4C4A-9E76-C9FE2968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C779-DB25-458B-9018-68AA9C9CE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A3E5C-28EA-4DE1-B39F-35241C907B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tlemen in the 1800’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riks K. Selg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 gentlema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word “gentleman” originally cam from the french word “gentillhome”, which was used by the French to describe people of the nobility, later the word came to be used in England as well.</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the beginning of the 19</a:t>
            </a:r>
            <a:r>
              <a:rPr b="0" lang="en-US" sz="1800" spc="-1" strike="noStrike" baseline="30000">
                <a:solidFill>
                  <a:srgbClr val="000000"/>
                </a:solidFill>
                <a:latin typeface="Calibri"/>
              </a:rPr>
              <a:t>th</a:t>
            </a:r>
            <a:r>
              <a:rPr b="0" lang="en-US" sz="1800" spc="-1" strike="noStrike">
                <a:solidFill>
                  <a:srgbClr val="000000"/>
                </a:solidFill>
                <a:latin typeface="Calibri"/>
              </a:rPr>
              <a:t> century it was generally accepted that a gentleman was someone in the aristocracy (so gentleman by birth), someone who had a high position in the clergy, someone who held position in parliament, as well as someone with a high position in the military.</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yone who did manual labor (even though it required quite some intellect), such as a engineer could not be a gentleman.</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tleman wasn’t just a social or class designation, it had a moral component to it (etiquette, demeanor) which made it very hard to define.</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was branded as the “chivalric code” of the time.</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ter in the 19</a:t>
            </a:r>
            <a:r>
              <a:rPr b="0" lang="en-US" sz="1800" spc="-1" strike="noStrike" baseline="30000">
                <a:solidFill>
                  <a:srgbClr val="000000"/>
                </a:solidFill>
                <a:latin typeface="Calibri"/>
              </a:rPr>
              <a:t>th</a:t>
            </a:r>
            <a:r>
              <a:rPr b="0" lang="en-US" sz="1800" spc="-1" strike="noStrike">
                <a:solidFill>
                  <a:srgbClr val="000000"/>
                </a:solidFill>
                <a:latin typeface="Calibri"/>
              </a:rPr>
              <a:t> century, as more people decided they wanted to acknowledged as gentlemen (other then the people in high positions or aristocracy) it was agreed that a gentleman was anyone who had an education from one of the elite schools of England such as Eton, Harrow or Rugb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eanor of a Gentlema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gentlemans etiquette was almost a way of lif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ver do disguisting things in public (like picking your nose, scratching your teeth, spitting on the floor e.t.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ways be well mannered towards others, especially ladies (This included greeting people as they entered the room, pulling the chair out for ladies, taking your hat off as you greeted one, e.t.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ver boast about yourself, or belittle othe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ess appropriately, depending on the ev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sure to always have good hygiene, especially when going to a social ev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sure to know all the dance floor manners (e.g. knowing all the dances, and knowing how to properly ask a lady for a dance) and all the table manners (what wine to drink with what foo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tlemen were expected to only be around other gentlemen, seeing them in pubs with lower-class laborers ,for example, would be embarra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ailed examples of etiquette:</a:t>
            </a:r>
            <a:br>
              <a:rPr sz="4000"/>
            </a:br>
            <a:r>
              <a:rPr b="0" lang="en-US" sz="4000" spc="-1" strike="noStrike">
                <a:solidFill>
                  <a:srgbClr val="000000"/>
                </a:solidFill>
                <a:latin typeface="Calibri"/>
              </a:rPr>
              <a:t>What to do</a:t>
            </a:r>
            <a:endParaRPr b="0"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WAYS</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r gloves on the street, in church &amp; other formal occasions, except when eating or drinking White or cream colored gloves for evening </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ay or other darker colors for day wear</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 up when a lady enters a room (or your presence in a large room) </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 up when a lady stands</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a lady your seat if no others are available</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 a lady with her chair when she sits down or stands, especially when at a table or when the chairs are small and light</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rieve dropped items for a lady</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doors for a lady</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lp a lady with her coat, cloak, shawl, etc.</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to bring a lady refreshments if they are available</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your arm to escort a lady (with whom you are acquainted) into or out of a building or a room at all social events, and whenever walking on uneven ground</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your hat when entering a building</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t your hat to a lady when she greets you in public (Merely touching the brim or a slight "tip" of the hat was very ru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ailed examples of etiquette:</a:t>
            </a:r>
            <a:br>
              <a:rPr sz="4000"/>
            </a:br>
            <a:r>
              <a:rPr b="0" lang="en-US" sz="4000" spc="-1" strike="noStrike">
                <a:solidFill>
                  <a:srgbClr val="000000"/>
                </a:solidFill>
                <a:latin typeface="Calibri"/>
              </a:rPr>
              <a:t>What to not do</a:t>
            </a:r>
            <a:endParaRPr b="0" lang="en-US" sz="40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V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er to another person by their first name in public</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rse or discuss "impolite" subjects when ladies are pres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ave a lady you know unattended, except with permiss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tobacco in any form when ladies are pres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eet a lady in public unless she acknowledges you first Eat or drink while wearing gloves</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9</a:t>
            </a:r>
            <a:r>
              <a:rPr b="0" lang="en-US" sz="4000" spc="-1" strike="noStrike" baseline="30000">
                <a:solidFill>
                  <a:srgbClr val="000000"/>
                </a:solidFill>
                <a:latin typeface="Calibri"/>
              </a:rPr>
              <a:t>th</a:t>
            </a:r>
            <a:r>
              <a:rPr b="0" lang="en-US" sz="4000" spc="-1" strike="noStrike">
                <a:solidFill>
                  <a:srgbClr val="000000"/>
                </a:solidFill>
                <a:latin typeface="Calibri"/>
              </a:rPr>
              <a:t> Century gentlemans Dress Code</a:t>
            </a:r>
            <a:endParaRPr b="0" lang="en-US" sz="40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19</a:t>
            </a:r>
            <a:r>
              <a:rPr b="0" lang="en-US" sz="2000" spc="-1" strike="noStrike" baseline="30000">
                <a:solidFill>
                  <a:srgbClr val="000000"/>
                </a:solidFill>
                <a:latin typeface="Calibri"/>
              </a:rPr>
              <a:t>th</a:t>
            </a:r>
            <a:r>
              <a:rPr b="0" lang="en-US" sz="2000" spc="-1" strike="noStrike">
                <a:solidFill>
                  <a:srgbClr val="000000"/>
                </a:solidFill>
                <a:latin typeface="Calibri"/>
              </a:rPr>
              <a:t> century, a gentleman’s usual outfit would be a dress-coat with  dark or light trousers, a waistcoat, a cravat, white gloves and shoes or patent-leather boot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0">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p:txBody>
      </p:sp>
      <p:pic>
        <p:nvPicPr>
          <p:cNvPr id="53" name="" descr="Period Clothing"/>
          <p:cNvPicPr/>
          <p:nvPr/>
        </p:nvPicPr>
        <p:blipFill>
          <a:blip r:embed="rId1"/>
          <a:stretch/>
        </p:blipFill>
        <p:spPr>
          <a:xfrm>
            <a:off x="457200" y="2664000"/>
            <a:ext cx="2028960" cy="3981240"/>
          </a:xfrm>
          <a:prstGeom prst="rect">
            <a:avLst/>
          </a:prstGeom>
          <a:ln w="0">
            <a:noFill/>
          </a:ln>
        </p:spPr>
      </p:pic>
      <p:pic>
        <p:nvPicPr>
          <p:cNvPr id="54" name="" descr="Period Clothing"/>
          <p:cNvPicPr/>
          <p:nvPr/>
        </p:nvPicPr>
        <p:blipFill>
          <a:blip r:embed="rId2"/>
          <a:stretch/>
        </p:blipFill>
        <p:spPr>
          <a:xfrm>
            <a:off x="2486160" y="2644920"/>
            <a:ext cx="2066760" cy="4000320"/>
          </a:xfrm>
          <a:prstGeom prst="rect">
            <a:avLst/>
          </a:prstGeom>
          <a:ln w="0">
            <a:noFill/>
          </a:ln>
        </p:spPr>
      </p:pic>
      <p:pic>
        <p:nvPicPr>
          <p:cNvPr id="55" name="" descr="Period Clothing"/>
          <p:cNvPicPr/>
          <p:nvPr/>
        </p:nvPicPr>
        <p:blipFill>
          <a:blip r:embed="rId3"/>
          <a:stretch/>
        </p:blipFill>
        <p:spPr>
          <a:xfrm>
            <a:off x="4579920" y="2873520"/>
            <a:ext cx="1523880" cy="3771720"/>
          </a:xfrm>
          <a:prstGeom prst="rect">
            <a:avLst/>
          </a:prstGeom>
          <a:ln w="0">
            <a:noFill/>
          </a:ln>
        </p:spPr>
      </p:pic>
      <p:pic>
        <p:nvPicPr>
          <p:cNvPr id="56" name="" descr="Period Clothing"/>
          <p:cNvPicPr/>
          <p:nvPr/>
        </p:nvPicPr>
        <p:blipFill>
          <a:blip r:embed="rId4"/>
          <a:stretch/>
        </p:blipFill>
        <p:spPr>
          <a:xfrm>
            <a:off x="6318360" y="2873520"/>
            <a:ext cx="1733400" cy="37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nection to “Great Expectations”</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eneral theme in “Great Expectations” is the difference between the lower classes and the higher classes, the lower class can be looked as being represented by Joe, and the higher class (gentleman) is represented by Pi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ver since Pip meets Estella, and gets told that he has coarse skin and ugly big boots he craves to become a gentlem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ip gets told that he has a secret benefactor, who will provide him a sum of money every month, so he could get an education in London, and basically become a gentlem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e a gentleman, Pip is going to have to get an education, he is going to have to adapt to a completely different way of lif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 a Gentleman, Pip will have to take care of his hygiene, learn how to speak in the “proper” English of the time, learn manners e.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0:15:48Z</dcterms:created>
  <dc:creator>CAC</dc:creator>
  <dc:description/>
  <dc:language>en-US</dc:language>
  <cp:lastModifiedBy>Eriks Kristians</cp:lastModifiedBy>
  <dcterms:modified xsi:type="dcterms:W3CDTF">2010-04-18T18:22:37Z</dcterms:modified>
  <cp:revision>5</cp:revision>
  <dc:subject/>
  <dc:title>The flying horse</dc:title>
</cp:coreProperties>
</file>